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3DB8-D67B-43FD-BF7B-C813B4AF44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6B33-9970-43F6-8414-AD8933EC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905F-8D7E-4139-985E-AD66CF30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008E-5991-49F6-87CE-942009F17A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73395-8645-4197-AEA1-2ADF0BF7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6559-F934-4F8B-9DFC-F757D544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E0F38-D9C8-41A3-8907-2A5AC4D9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1D08A-175F-447C-859F-5E6672E2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DB129-E7CD-4953-8461-2B5D0EBA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C26D-D7F7-4A79-BB2D-5D97C434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7662C-F957-40C6-A2D3-8C58538A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700AA-F6CB-4E35-94B2-D6BDE1F6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2FF1-2F27-466D-9CB0-47E967761B3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891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寄生虫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iperraz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虫体神经肌肉接头处的乙酰胆碱受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痹蛔虫的肌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蛔虫病，蛲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6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 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371600"/>
            <a:ext cx="848664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哌嗪毒性低，比较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头痛、恶心、呕吐、眩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可出现神经系统中毒症状，如眩晕、震颤、共济失调、乏力、健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神经系统疾病或有癫痫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过敏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哺乳期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避免长期或反复过量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功能不良者应减少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纠止营养不良或贫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需禁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者需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与以下药物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氯丙嗪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噻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硫氯酚或左旋咪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吩噻嗪类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 Pyrantel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抑制胆碱酯酶，对蠕虫的神经肌肉接头处产生阻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、钩虫、蛲虫及其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疗效最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蛔虫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睡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顿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 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驱钩虫应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蛲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晚顿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肛用软膏：每晚睡前涂于肛门周围，再插入肛内挤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即可，连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眩晕、头痛、腰痛、腹痛、腹泻、畏寒和皮疹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不全患者、冠心病、肾脏病及严重溃疡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得擅自超量或增加服药次数，不可漏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蛲虫应在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，再进行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对营养不良、贫血患者应先给予支持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空腹或服用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哌嗪类药物不能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Levamisole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性抑制虫体肌肉中的琥珀酸脱氢酶，使延胡索酸不能还原为琥珀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虫体肌肉的无氧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免疫调节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蛔虫效果最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蛲虫及钩、蛔、丝虫的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mg/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晚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饭后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7389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吸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阿米巴病药和抗滴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785960" y="2000160"/>
            <a:ext cx="688680" cy="593640"/>
            <a:chOff x="1785960" y="2000160"/>
            <a:chExt cx="688680" cy="593640"/>
          </a:xfrm>
        </p:grpSpPr>
        <p:sp>
          <p:nvSpPr>
            <p:cNvPr id="108" name="AutoShape 5"/>
            <p:cNvSpPr/>
            <p:nvPr/>
          </p:nvSpPr>
          <p:spPr>
            <a:xfrm>
              <a:off x="1791360" y="20102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785960" y="20001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25920" y="203508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22400" y="20718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785960" y="1285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28880" y="13572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785960" y="2786040"/>
            <a:ext cx="686880" cy="593640"/>
            <a:chOff x="1785960" y="2786040"/>
            <a:chExt cx="68688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791360" y="27961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785960" y="27860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25920" y="28209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28880" y="28576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785960" y="350028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869120" y="35719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357280" y="1857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357280" y="25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28600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357280" y="4071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785960" y="4143240"/>
            <a:ext cx="688680" cy="594000"/>
            <a:chOff x="1785960" y="4143240"/>
            <a:chExt cx="688680" cy="594000"/>
          </a:xfrm>
        </p:grpSpPr>
        <p:sp>
          <p:nvSpPr>
            <p:cNvPr id="126" name="AutoShape 5"/>
            <p:cNvSpPr/>
            <p:nvPr/>
          </p:nvSpPr>
          <p:spPr>
            <a:xfrm>
              <a:off x="1791360" y="41533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1785960" y="41432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1825920" y="41781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Text Box 8"/>
          <p:cNvSpPr/>
          <p:nvPr/>
        </p:nvSpPr>
        <p:spPr>
          <a:xfrm>
            <a:off x="1922400" y="4214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357280" y="4714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1785960" y="4857840"/>
            <a:ext cx="686880" cy="593640"/>
            <a:chOff x="1785960" y="4857840"/>
            <a:chExt cx="686880" cy="593640"/>
          </a:xfrm>
        </p:grpSpPr>
        <p:sp>
          <p:nvSpPr>
            <p:cNvPr id="132" name="AutoShape 12"/>
            <p:cNvSpPr/>
            <p:nvPr/>
          </p:nvSpPr>
          <p:spPr>
            <a:xfrm>
              <a:off x="1791360" y="48679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3"/>
            <p:cNvSpPr/>
            <p:nvPr/>
          </p:nvSpPr>
          <p:spPr>
            <a:xfrm>
              <a:off x="1785960" y="48578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>
              <a:off x="1825920" y="48927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5" name="Line 21"/>
          <p:cNvSpPr/>
          <p:nvPr/>
        </p:nvSpPr>
        <p:spPr>
          <a:xfrm>
            <a:off x="235728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922400" y="49291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940400" y="564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993680" y="5715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晕、恶心、呕吐及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流感样症状、血压降低、脉管炎、蛋白尿、白细胞减少、血小板减少、共济失调、感觉异常、视物模糊和肝功能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丝虫病主要反应为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早期、肝炎活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异常及肾功能减退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四氯乙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服泻剂，不忌油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噻嘧啶合用对治疗严重钩虫感染有协同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苯咪唑合用可增强驱虫效果，并避免蛔虫游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500040" y="1214280"/>
            <a:ext cx="7786800" cy="1928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半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前出现肛门周围瘙痒，以夜间为甚，睡眠不安，夜间时有突发哭闹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以来胃纳欠佳，无恶心、呕吐。患儿家长在患儿熟睡后见肛周有乳白色线头样小虫在爬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285840" y="3500280"/>
            <a:ext cx="821520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4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分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R27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营养中等，面色可，全身皮肤粘膜无黄染、无皮疹。两肺呼吸音清，未闻及啰音，心率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6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律齐，心音有力，腹平软。神经系统无异常。化验检查结果：血红蛋白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20g/L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白细胞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7.8×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N48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E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。尿便常规正常。患儿家长在护士的指导下，于夜间患儿熟睡时用透明胶纸在患儿肛门周围处轻压取虫卵送检，确诊为蛲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圆角矩形 3"/>
          <p:cNvSpPr/>
          <p:nvPr/>
        </p:nvSpPr>
        <p:spPr>
          <a:xfrm>
            <a:off x="357120" y="1643040"/>
            <a:ext cx="7929720" cy="31431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写出能治疗该患儿的几种驱虫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说出阿苯达唑的作用机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若医生让患儿服用驱蛔灵治疗，请你告知家长此药的不良反应和禁忌证及服药时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iclosamid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绦虫线粒体氧化磷酸化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碍绦虫对氧和葡萄糖的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节片中的虫卵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绦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143000"/>
            <a:ext cx="84297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、猪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宜在清晨空腹服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时将药片充分咬碎后吞下，并应尽量少喝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药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需服硫酸镁导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膜壳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g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起每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较少而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乏力、头晕、胸闷、恶心、呕吐、腹痛和胃、腹部不适以及发热、瘙痒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晚宜进软食，有慢性便秘者在治疗前先用一剂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服药时应压碎，调成糊状，让小儿吞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猪带绦虫时服药前宜先服止吐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粪便中出现虫卵或节片，应重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时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留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粪便寻找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在排便时应坐在与体温相同的生理盐水中排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治疗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无虫卵和节片排出为治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grimophol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中草药仙鹤草根中提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细胞代谢，切断能量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驱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也可治疗滴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肠虫药阿苯达唑、甲苯达唑、哌 嗪、噻嘧啶、左旋咪唑及抗滴虫病药的作用机制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丝虫病药、抗疟原虫药主要代表药物及临床应用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药、抗吸虫病药、抗阿米巴病药主要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：口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kg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8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肉绦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晨空腹顿服，当日禁食早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后服酚酞或硫酸镁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呕吐、头晕、冷汗，或于服药半月后有一过性腹泻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可导致虚脱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硝唑脒合用可使疗效显著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忌食油腻及饮酒，避免用蓖麻油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年老体弱、小儿营养不良、心脏病患者宜用酚酞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 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Diethylcarbamazine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微丝蚴和成虫均有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使血中微丝蚴迅速集中到肝脏的微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部分可被肝脏吞噬细胞杀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可改变微丝蚴体表的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疗程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月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程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马来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两次服，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斑氏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成人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痛、乏力、食欲不振、恶心、呕吐、关节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淋巴结炎、淋巴管炎、精索炎、附睾炎等，并出现结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轻度蛋白尿和血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现肝脏肿大和压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量微丝蚴及成虫被杀死后释放出的异体蛋白可引起畏寒、发热、皮疹、喉头水肿、哮喘、淋巴结肿大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活动性肺结核、严重肝肾病、心脏病、急性传染病、孕妇、哺乳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驱蛔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卡巴胂合用可增强对成虫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重马来丝虫病患者，在治疗前可先服抗组胺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短程疗法易出现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Furapyrimido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较强的杀灭鼠丝虫微丝蚴和成虫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的作用优于微丝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与乙胺嗪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班氏丝虫病和马来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效优于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~1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总剂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0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症状、发热、心悸、胸闷、四肢麻木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微上升及个别心电图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心、肝、肾等疾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戒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尿可染成浅绿黄色似出现浓茶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余参阅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vermect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机制尚未阐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对微丝蚴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淋巴丝虫病及驱除肠道其它寄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或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上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重复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疹或瘙痒及颈部、腋窝、腹股沟等部位的淋巴结肿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致嗜睡、运动失调、瞳孔放大及震颤等甚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患者、孕妇、哺乳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小于５岁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进餐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大便可染成红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阿苯达唑联用可增强对马来丝虫、班氏丝虫病的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故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抗吸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aziquante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吸虫活动兴奋，肌肉痉挛，破坏虫体表膜和肠道，促使成虫立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幼虫作用差，对虫卵无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防治血吸虫、肺吸虫、绦虫、丝虫、华支睾吸虫、囊虫及姜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4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晕、头痛、恶心、腹痛、腹胀、腹泻、关节酸痛、失眠、乏力、多汗、胸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心电图改变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别可有精神失常、消化道出血、脑疝。亦可发生哮喘及皮疹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、孕妇、眼囊虫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心、肝、肾功能不全及精神病史和癫痫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餐间服用；宜吞服，不宜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期间与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应避免驾驶、机械操作和高空作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于服药期间，直至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不宜哺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囊尾蚴病时，应加用地塞米松和脱水剂防治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 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lbendazol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5840" y="1428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为砜和亚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对葡萄糖的摄入，导致虫体糖原耗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延胡索酸还原酶系统，阻碍三磷酸腺苷的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无法生存和繁殖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杀死虫卵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 抗阿米巴药和抗滴虫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me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阿米巴滋养体的分裂与繁殖，从而杀灭滋养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作用于肠道和肝脏组织的阿米巴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和肠外阿米巴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下或深部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量不宜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，不得连续用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不可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；如未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后再予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 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二次注射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~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一疗程，每日最大量按年龄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同成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盐酸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腹痛、腹泻、肌无力等。偶见周围神经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压下降、心前区痛、脉细弱、心律失常、心力衰竭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症心脏病、重度贫血、肝、肾功能明显减退患者、婴幼儿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长期连续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前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必须卧床休息，检查心脏与血压有无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口服、静脉和肌内注射给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前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葡萄糖酸钙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减轻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禁服刺激性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避免剧烈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有心电图变化，应立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需重复治疗至少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tronidazo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滴虫、阿米巴原虫有强大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阴道滴虫和阿米巴原虫的首选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梨形鞭毛虫、丝虫、毛囊虫、绦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抗厌氧菌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滴虫、阿米巴痢疾、急性肠外阿米巴病、梨形鞭毛虫、丝虫、毛囊虫、绦虫及厌氧菌感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腔感染内、呼吸系统感染、消化系统感染及溃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另外每晚阴道用栓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粒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及无症状带虫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梨形鞭毛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5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Q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也可静脉滴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~20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 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.5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欲减退、恶心、腹泻、上腹部绞痛等胃肠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舌炎、胃炎、口腔炎、口中有金属味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道和尿道有烧灼感、尿色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哺乳期妇女、中枢神经系统疾病、血液病和过敏体质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禁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每日更换内裤，防止重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硝唑能增强华法林和双香豆素的抗凝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苯巴比妥、苯妥英钠可加速其代谢而减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西咪替丁抑制本药代谢使血药浓度升高，毒性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双硫仑合用可致精神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六节  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驱蛔虫、蛲虫、钩虫、鞭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旋毛虫、绦虫和囊虫病、包虫、华支睾吸虫、粪类圆线虫病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畜的驱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rtemisin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疟原虫的红细胞内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的细胞表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粒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了营养摄取，抑制原虫蛋白质合成，使其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性疟、间日疟、特别是抢救脑型疟有良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血吸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先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总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服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深部肌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给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肌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注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肠给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6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2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过性氨基转移酶升高及轻度皮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度恶心、呕吐、腹泻等副反应，可自行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慎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宜深，并注意更换注射部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采用栓剂是如肛塞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排便，应再不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苄胺嘧啶并用有增效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hloroqu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红内期裂殖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裂殖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复制与转录过程或阻碍其内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因缺乏氨基酸而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氯喹敏感的恶性疟、间日疟及三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疟疾症状的抑制性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、结缔组织病、光敏感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首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全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6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及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性预防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后改为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总疗程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型恶性疟：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药量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内全部输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可能出现的反应有：头晕、头痛、眼花、食欲减退、恶心、呕吐、腹痛、腹泻、皮肤瘙痒、皮疹、甚至剥脱性皮炎、耳鸣、烦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量大，疗程长，可能会对眼有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久服可现暗点，影响视力，常为不可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还可损害听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大量服用可造成小儿先天性耳聋，智力迟钝、脑积水、四肢缺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偶可引起窦房结的抑制，导致心律失常、休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对本品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肾功能不全、心脏病、重型多型红斑、血卟啉病、牛皮癣及精神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时或餐后给药，以减轻胃肠道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输液浓度和速度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止静脉推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尿液可变为棕色或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服用本品治疗以前，应先作眼部详细检查，排除原有病变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患者宜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长期用药者应定期进行血象、听力、眼科及肌强度和深反射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、蛲虫、钩虫、粪类圆线虫、鞭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顿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重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旋毛线虫、绦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囊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包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重复治疗，一般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吸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上述剂量加倍给予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泰松同用，易引起过敏性皮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丙嗪等合用，易加重肝脏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化铵合用可加速排泄而降低血药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伯氨喹合用时，部分患者可产生严重心血管系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同类物（氨酚喹、羟基氯喹等）同用时，可使氯喹血中浓度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imaqui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抑制线粒体的氧化作用，使疟原虫摄氧量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疟原虫红外期三磷酸吡啶核苷酸的还原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疟原虫的能量代谢和呼吸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红外期与配子体有较强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疟疾传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39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3mg/( 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剂量相同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2.8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 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疲倦、头晕、恶心、呕吐、腹痛等不良反应，停药后即可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、系统性红斑狼疮及类风湿性关节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及血液系统疾患、糖尿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数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患者可发生急性溶血性贫血，应立即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发生高铁血红蛋白血症，可静脉注射亚甲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g/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定期检查红细胞计数及血红蛋白量含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合用，可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伯氨喹与米帕林及氯胍同用后，毒性增加，但疗效未见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其他具有溶血作用和抑制骨髓造血功能的药物合用</a:t>
            </a:r>
            <a:br>
              <a:rPr sz="2400"/>
            </a:b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，均较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干、恶心、呕吐、乏力、头晕、轻度头痛、胃肠道不适及食欲减退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部分患者会出现发热、荨麻疹、癫痫、视力障碍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、哺乳期妇女，有癫痫病史、急性疾病、脓性或弥漫性皮炎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肝、肾、心功能不全、活动性溃疡患者、药物过敏史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不需空腹或清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嚼服、吞服或研碎后与食物同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富含脂肪的食物可增加生物利用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致畸作用和胚胎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01:10Z</dcterms:modified>
  <cp:revision>158</cp:revision>
  <dc:subject/>
  <dc:title>内科护理学</dc:title>
</cp:coreProperties>
</file>